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DF3-20A4-4428-8DA9-FFD61DFF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EC8-45EB-4690-82E8-3F88E7E6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565-688C-4121-9F74-6813B230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2623-C93C-4E9D-9042-8EE1C846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106-12D5-4E62-9A1C-3006B0E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D36-23C8-4E5D-A1B8-A6D353B0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7A4-1E8C-4AD1-984B-F90AC42E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7E5B-2CAC-48BA-8470-0C04354A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5FB-6C80-4D82-B3F8-97D516A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773-8EC0-40CB-BF37-B3C8551D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BB5-5F76-435D-8456-BB16184D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A2E-4A76-42EF-A52D-28B92D5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E8A3E-B6DA-4378-9295-856987B873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bcd1234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4"/>
          <p:cNvSpPr/>
          <p:nvPr/>
        </p:nvSpPr>
        <p:spPr>
          <a:xfrm>
            <a:off x="2021040" y="270000"/>
            <a:ext cx="28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医療法人　○○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5"/>
          <p:cNvSpPr/>
          <p:nvPr/>
        </p:nvSpPr>
        <p:spPr>
          <a:xfrm>
            <a:off x="2122560" y="717480"/>
            <a:ext cx="26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○○○○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医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6"/>
          <p:cNvSpPr/>
          <p:nvPr/>
        </p:nvSpPr>
        <p:spPr>
          <a:xfrm>
            <a:off x="2124000" y="2028960"/>
            <a:ext cx="27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院長　　○○　△△　　（○○回生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2364120" y="159696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内科　外科　整形外科　皮膚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1520280" y="3746520"/>
            <a:ext cx="36759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〒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000-000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福岡県久留米市野中町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-1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EL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0942-12-3456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AX  0942-12-345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ＭＳ Ｐゴシック"/>
                <a:hlinkClick r:id="rId1"/>
              </a:rPr>
              <a:t>http://www.abcd1234.com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「○○○○医院」で検索して下さ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3"/>
          <p:cNvSpPr/>
          <p:nvPr/>
        </p:nvSpPr>
        <p:spPr>
          <a:xfrm>
            <a:off x="303120" y="2492280"/>
            <a:ext cx="618660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メッセージ</a:t>
            </a:r>
            <a:r>
              <a:rPr b="0" lang="ja-JP" sz="14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していくため、それを補うかのように心筋は肥大していくことになります。全身の血管にも動脈硬化がみられ内腔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定期的に、医院でメインテナンスを受けましょ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1"/>
          <p:cNvSpPr/>
          <p:nvPr/>
        </p:nvSpPr>
        <p:spPr>
          <a:xfrm>
            <a:off x="303120" y="266760"/>
            <a:ext cx="1260720" cy="1258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ロゴマークな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"/>
          <p:cNvSpPr/>
          <p:nvPr/>
        </p:nvSpPr>
        <p:spPr>
          <a:xfrm>
            <a:off x="0" y="0"/>
            <a:ext cx="6858000" cy="4572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1:28:23Z</dcterms:created>
  <dc:creator>堀元 隆司</dc:creator>
  <dc:description/>
  <dc:language>en-US</dc:language>
  <cp:lastModifiedBy>SAKAMOTO</cp:lastModifiedBy>
  <dcterms:modified xsi:type="dcterms:W3CDTF">2013-09-04T01:42:10Z</dcterms:modified>
  <cp:revision>16</cp:revision>
  <dc:subject/>
  <dc:title>PowerPoint プレゼンテーション</dc:title>
</cp:coreProperties>
</file>