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116-FD25-490B-A317-25FA0FF9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96E-1722-49CB-9492-E38F47A2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63E-1E09-4BE1-8825-1007B2A3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C8D-E208-4887-9547-6659E6E2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84E-CC5F-463B-A279-A6E561CF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E61-C782-4652-AD8F-A62654EB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561-7CCB-45B6-A49E-5D3BEFE0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09D-69CD-4B56-877E-EBDD2F92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7CE2-F087-44D6-8426-DFA9F584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F5D4-B007-4C04-93BC-E57A5A4D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691-412A-47F0-8779-381C8B75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880-5E42-4DAD-A49F-713CAF5F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48A13-4E53-4429-9E2A-B3179EC1FD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bcd1234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4"/>
          <p:cNvSpPr/>
          <p:nvPr/>
        </p:nvSpPr>
        <p:spPr>
          <a:xfrm>
            <a:off x="303120" y="334800"/>
            <a:ext cx="289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医療法人　○○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5"/>
          <p:cNvSpPr/>
          <p:nvPr/>
        </p:nvSpPr>
        <p:spPr>
          <a:xfrm>
            <a:off x="672840" y="706320"/>
            <a:ext cx="21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○○○○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医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6"/>
          <p:cNvSpPr/>
          <p:nvPr/>
        </p:nvSpPr>
        <p:spPr>
          <a:xfrm>
            <a:off x="123840" y="1781280"/>
            <a:ext cx="33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院長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○○　△△　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（○○回生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7"/>
          <p:cNvSpPr/>
          <p:nvPr/>
        </p:nvSpPr>
        <p:spPr>
          <a:xfrm>
            <a:off x="923760" y="1285920"/>
            <a:ext cx="18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内科　外科　整形外科　皮膚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8"/>
          <p:cNvSpPr/>
          <p:nvPr/>
        </p:nvSpPr>
        <p:spPr>
          <a:xfrm>
            <a:off x="90720" y="3697200"/>
            <a:ext cx="315900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000-00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福岡県久留米市野中町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0-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TEL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0942-12-3456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FAX  0942-12-34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ＭＳ Ｐゴシック"/>
                <a:hlinkClick r:id="rId1"/>
              </a:rPr>
              <a:t>http://www.abcd1234.com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「○○○○医院」で検索して下さ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3"/>
          <p:cNvSpPr/>
          <p:nvPr/>
        </p:nvSpPr>
        <p:spPr>
          <a:xfrm>
            <a:off x="201600" y="2230560"/>
            <a:ext cx="30942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メッセージ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していくため、それを補うかのように心筋は肥大していくことになります。全身の血管にも動脈硬化がみられ内腔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定期的に、医院でメインテナンスを受けましょ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1"/>
          <p:cNvSpPr/>
          <p:nvPr/>
        </p:nvSpPr>
        <p:spPr>
          <a:xfrm>
            <a:off x="0" y="0"/>
            <a:ext cx="3429000" cy="4572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01:28:23Z</dcterms:created>
  <dc:creator>堀元 隆司</dc:creator>
  <dc:description/>
  <dc:language>en-US</dc:language>
  <cp:lastModifiedBy>SAKAMOTO</cp:lastModifiedBy>
  <dcterms:modified xsi:type="dcterms:W3CDTF">2013-09-04T01:42:57Z</dcterms:modified>
  <cp:revision>16</cp:revision>
  <dc:subject/>
  <dc:title>PowerPoint プレゼンテーション</dc:title>
</cp:coreProperties>
</file>