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6E8-E459-4E03-A54D-3FF27986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DAC-962F-44F1-9575-341E2EDD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63C0-6F26-4D79-8888-DD0936C7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217-94F0-4F01-8506-3B3B5DC9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248-7288-433E-8C95-A2C56E44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2775-6197-4684-BE3E-A8BF0117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6A6-D6BF-4CFF-8BD7-19B875EB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0DF4-C1AB-4D4C-B302-8491145A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D963-F560-476A-AD91-40AED9A7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A82C-BEAE-40F1-B100-D704C6ED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E0DB-9596-4B10-A4B4-E2F3DEAA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C20-C1CC-4C61-98D7-A5309DDF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3021D-4397-4F95-8996-5F9FB68254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bcd1234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4"/>
          <p:cNvSpPr/>
          <p:nvPr/>
        </p:nvSpPr>
        <p:spPr>
          <a:xfrm>
            <a:off x="1973160" y="2184480"/>
            <a:ext cx="289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医療法人　○○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5"/>
          <p:cNvSpPr/>
          <p:nvPr/>
        </p:nvSpPr>
        <p:spPr>
          <a:xfrm>
            <a:off x="1836000" y="2911320"/>
            <a:ext cx="31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ＭＳ Ｐゴシック"/>
              </a:rPr>
              <a:t>○○○○</a:t>
            </a:r>
            <a:r>
              <a:rPr b="0" lang="ja-JP" sz="4800" spc="-1" strike="noStrike">
                <a:solidFill>
                  <a:srgbClr val="000000"/>
                </a:solidFill>
                <a:latin typeface="ＭＳ Ｐゴシック"/>
              </a:rPr>
              <a:t>医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6"/>
          <p:cNvSpPr/>
          <p:nvPr/>
        </p:nvSpPr>
        <p:spPr>
          <a:xfrm>
            <a:off x="2124000" y="4253040"/>
            <a:ext cx="27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院長　　○○　△△　　（○○回生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7"/>
          <p:cNvSpPr/>
          <p:nvPr/>
        </p:nvSpPr>
        <p:spPr>
          <a:xfrm>
            <a:off x="2364120" y="1525680"/>
            <a:ext cx="212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内科　外科　整形外科　皮膚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8"/>
          <p:cNvSpPr/>
          <p:nvPr/>
        </p:nvSpPr>
        <p:spPr>
          <a:xfrm>
            <a:off x="2027880" y="7729560"/>
            <a:ext cx="297504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〒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000-0000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　福岡県久留米市野中町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20-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TEL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0942-12-345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AX  0942-12-345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ＭＳ Ｐゴシック"/>
                <a:hlinkClick r:id="rId1"/>
              </a:rPr>
              <a:t>http://www.abcd1234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「○○○○医院」で検索して下さ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13"/>
          <p:cNvSpPr/>
          <p:nvPr/>
        </p:nvSpPr>
        <p:spPr>
          <a:xfrm>
            <a:off x="430200" y="4997520"/>
            <a:ext cx="599760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メッセージ</a:t>
            </a:r>
            <a:r>
              <a:rPr b="0" lang="ja-JP" sz="14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の臓器も縮小傾向にあり、その機能も必然的に低下してくることになります。心筋の力も加齢によって徐々に低下していくため、それを補うかのように心筋は肥大していくことになります。全身の血管にも動脈硬化がみられ内腔が狭くなります。それにより、脳や全身の各臓器への酸素や栄養の供給が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定期的に、医院でメインテナンスを受けましょ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17"/>
          <p:cNvSpPr/>
          <p:nvPr/>
        </p:nvSpPr>
        <p:spPr>
          <a:xfrm>
            <a:off x="419040" y="7184880"/>
            <a:ext cx="599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往診、企業への出張診療・健診や、各健保組合指定健診もおこなっていま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1"/>
          <p:cNvSpPr/>
          <p:nvPr/>
        </p:nvSpPr>
        <p:spPr>
          <a:xfrm>
            <a:off x="622440" y="623880"/>
            <a:ext cx="1260360" cy="1258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ロゴマークな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01:28:23Z</dcterms:created>
  <dc:creator>堀元 隆司</dc:creator>
  <dc:description/>
  <dc:language>en-US</dc:language>
  <cp:lastModifiedBy>SAKAMOTO</cp:lastModifiedBy>
  <dcterms:modified xsi:type="dcterms:W3CDTF">2013-09-04T01:22:20Z</dcterms:modified>
  <cp:revision>13</cp:revision>
  <dc:subject/>
  <dc:title>PowerPoint プレゼンテーション</dc:title>
</cp:coreProperties>
</file>