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E87E-B6C4-4D7F-A576-E4778A52E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E48C-7E90-4695-B1F9-FE6197E1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4E52-38F9-4F3C-93CE-F14CF7D06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CD2F-1F20-44C7-AA73-C9D78279C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E58D-1331-49DC-B1BA-C9F66F35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A4D4-9F6D-4CC5-B9AE-DB593183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32E9-E006-4A54-89AC-F3698615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31E1-8442-4353-88E4-BE39760A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46B4-84C4-4DEF-A724-980275CE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C955-38A4-4ACC-B9EB-8ED0421C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90EE-D405-4D7B-882C-73444DE8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5F3C-82C1-458E-A82B-39FA590B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6D75D8-7887-4085-81B7-604318FD3B7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bcd1234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テキスト ボックス 4"/>
          <p:cNvSpPr/>
          <p:nvPr/>
        </p:nvSpPr>
        <p:spPr>
          <a:xfrm>
            <a:off x="430200" y="219240"/>
            <a:ext cx="17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医療法人　○○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テキスト ボックス 5"/>
          <p:cNvSpPr/>
          <p:nvPr/>
        </p:nvSpPr>
        <p:spPr>
          <a:xfrm>
            <a:off x="2457360" y="60480"/>
            <a:ext cx="21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○○○○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医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テキスト ボックス 6"/>
          <p:cNvSpPr/>
          <p:nvPr/>
        </p:nvSpPr>
        <p:spPr>
          <a:xfrm>
            <a:off x="430200" y="977760"/>
            <a:ext cx="282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院長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○○　△△　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（○○回生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7"/>
          <p:cNvSpPr/>
          <p:nvPr/>
        </p:nvSpPr>
        <p:spPr>
          <a:xfrm>
            <a:off x="2579400" y="528480"/>
            <a:ext cx="188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ヒラギノ丸ゴ ProN W4"/>
                <a:ea typeface="ヒラギノ丸ゴ ProN W4"/>
              </a:rPr>
              <a:t>内科　外科　整形外科　皮膚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8"/>
          <p:cNvSpPr/>
          <p:nvPr/>
        </p:nvSpPr>
        <p:spPr>
          <a:xfrm>
            <a:off x="415800" y="1797120"/>
            <a:ext cx="5940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〒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000-00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福岡県久留米市野中町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20-1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TEL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0942-12-3456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FAX  0942-12-34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ＭＳ Ｐゴシック"/>
                <a:hlinkClick r:id="rId1"/>
              </a:rPr>
              <a:t>http://www.abcd1234.com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「○○○○医院」で検索して下さ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テキスト ボックス 13"/>
          <p:cNvSpPr/>
          <p:nvPr/>
        </p:nvSpPr>
        <p:spPr>
          <a:xfrm>
            <a:off x="501480" y="1325520"/>
            <a:ext cx="58550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ヒラギノ丸ゴ ProN W4"/>
                <a:ea typeface="ヒラギノ丸ゴ ProN W4"/>
              </a:rPr>
              <a:t>メッセージ　：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していくため、それを補うかのように心筋は肥大していくことになります。全身の血管にも動脈硬化がみられ内腔が</a:t>
            </a:r>
            <a:r>
              <a:rPr b="0" lang="ja-JP" sz="1200" spc="-1" strike="noStrike">
                <a:solidFill>
                  <a:srgbClr val="000000"/>
                </a:solidFill>
                <a:latin typeface="ヒラギノ丸ゴ ProN W4"/>
                <a:ea typeface="ヒラギノ丸ゴ ProN W4"/>
              </a:rPr>
              <a:t>定期的に、医院でメインテナンスを受けま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1"/>
          <p:cNvSpPr/>
          <p:nvPr/>
        </p:nvSpPr>
        <p:spPr>
          <a:xfrm>
            <a:off x="0" y="0"/>
            <a:ext cx="6858000" cy="2411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01:28:23Z</dcterms:created>
  <dc:creator>堀元 隆司</dc:creator>
  <dc:description/>
  <dc:language>en-US</dc:language>
  <cp:lastModifiedBy>SAKAMOTO</cp:lastModifiedBy>
  <dcterms:modified xsi:type="dcterms:W3CDTF">2013-09-13T01:12:19Z</dcterms:modified>
  <cp:revision>17</cp:revision>
  <dc:subject/>
  <dc:title>PowerPoint プレゼンテーション</dc:title>
</cp:coreProperties>
</file>