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C6C-435B-4033-888F-F6B0C62C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45B-51C3-42C5-AF85-BEAB3B44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DDC-609D-4504-8A32-0618B35B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F8B-D14D-4DB6-A1D5-CC430221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C0E-5CD5-45BE-B116-2ED82532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0A0-027D-495C-B094-4452E121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B7F-F27B-4F10-83C6-07C51242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C2B-5B08-4BA1-836C-10130C3D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EA5-4156-4698-8885-B09C7FD8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969-AE62-4FDC-8DEB-C368EF1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119-91B1-498A-ABAE-AF1F7E33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C7A-9DC5-40CD-8921-71A99943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42868-1C15-4E30-87E0-18EE1BC971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13"/>
          <p:cNvSpPr/>
          <p:nvPr/>
        </p:nvSpPr>
        <p:spPr>
          <a:xfrm>
            <a:off x="0" y="3240"/>
            <a:ext cx="3429000" cy="23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Arial"/>
              </a:rPr>
              <a:t>Sample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△△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（○○回生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　○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×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不動産株式会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メッセー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卒業して○○年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中国の不動産バブルも一段落して、これからは東南アジア諸国のインフラ整備のため、これからの経験をいかして・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13"/>
          <p:cNvSpPr/>
          <p:nvPr/>
        </p:nvSpPr>
        <p:spPr>
          <a:xfrm>
            <a:off x="3429000" y="0"/>
            <a:ext cx="3429000" cy="23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Arial"/>
              </a:rPr>
              <a:t>Sample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△△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（○○回生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○</a:t>
            </a:r>
            <a:r>
              <a:rPr b="0" lang="en-US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×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エンジニアリング　執行役員　技術本部長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成せばなる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14"/>
          <p:cNvSpPr/>
          <p:nvPr/>
        </p:nvSpPr>
        <p:spPr>
          <a:xfrm>
            <a:off x="0" y="4572000"/>
            <a:ext cx="3429000" cy="23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Arial"/>
              </a:rPr>
              <a:t>Sample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△△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（○○回生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九州大学医学部付属病院外科第○○群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ドイツから帰ってきました。日本はエエの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5"/>
          <p:cNvSpPr/>
          <p:nvPr/>
        </p:nvSpPr>
        <p:spPr>
          <a:xfrm>
            <a:off x="3429000" y="4572000"/>
            <a:ext cx="3429000" cy="23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  <a:ea typeface="Arial"/>
              </a:rPr>
              <a:t>Sample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○○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△△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（○○回生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サラリーマン生活を卒業して、悠々自適のハズが、ご近所のボラティアで家にいる暇もなし･･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1:28:23Z</dcterms:created>
  <dc:creator>堀元 隆司</dc:creator>
  <dc:description/>
  <dc:language>en-US</dc:language>
  <cp:lastModifiedBy>SAKAMOTO</cp:lastModifiedBy>
  <dcterms:modified xsi:type="dcterms:W3CDTF">2013-09-04T01:40:00Z</dcterms:modified>
  <cp:revision>17</cp:revision>
  <dc:subject/>
  <dc:title>PowerPoint プレゼンテーション</dc:title>
</cp:coreProperties>
</file>